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3.wmf" ContentType="image/x-wmf"/>
  <Override PartName="/ppt/media/image52.wmf" ContentType="image/x-wmf"/>
  <Override PartName="/ppt/media/image50.wmf" ContentType="image/x-wmf"/>
  <Override PartName="/ppt/media/image48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7.png" ContentType="image/png"/>
  <Override PartName="/ppt/media/image37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33.wmf" ContentType="image/x-wmf"/>
  <Override PartName="/ppt/media/image31.wmf" ContentType="image/x-wmf"/>
  <Override PartName="/ppt/media/image30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4.png" ContentType="image/png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5.png" ContentType="image/png"/>
  <Override PartName="/ppt/media/image38.wmf" ContentType="image/x-wmf"/>
  <Override PartName="/ppt/media/image8.wmf" ContentType="image/x-wmf"/>
  <Override PartName="/ppt/media/image85.wmf" ContentType="image/x-wmf"/>
  <Override PartName="/ppt/media/image40.wmf" ContentType="image/x-wmf"/>
  <Override PartName="/ppt/media/image6.png" ContentType="image/png"/>
  <Override PartName="/ppt/media/image54.png" ContentType="image/png"/>
  <Override PartName="/ppt/media/image108.wmf" ContentType="image/x-wmf"/>
  <Override PartName="/ppt/media/image15.wmf" ContentType="image/x-wmf"/>
  <Override PartName="/ppt/media/image80.wmf" ContentType="image/x-wmf"/>
  <Override PartName="/ppt/media/image51.wmf" ContentType="image/x-wmf"/>
  <Override PartName="/ppt/media/image11.png" ContentType="image/png"/>
  <Override PartName="/ppt/media/image79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2.png" ContentType="image/png"/>
  <Override PartName="/ppt/media/image2.png" ContentType="image/png"/>
  <Override PartName="/ppt/media/image14.wmf" ContentType="image/x-wmf"/>
  <Override PartName="/ppt/media/image3.png" ContentType="image/png"/>
  <Override PartName="/ppt/media/image29.wmf" ContentType="image/x-wmf"/>
  <Override PartName="/ppt/media/image94.wmf" ContentType="image/x-wmf"/>
  <Override PartName="/ppt/media/image1.png" ContentType="image/png"/>
  <Override PartName="/ppt/media/image16.wmf" ContentType="image/x-wmf"/>
  <Override PartName="/ppt/media/image81.wmf" ContentType="image/x-wmf"/>
  <Override PartName="/ppt/media/image17.wmf" ContentType="image/x-wmf"/>
  <Override PartName="/ppt/media/image82.wmf" ContentType="image/x-wmf"/>
  <Override PartName="/ppt/media/image18.wmf" ContentType="image/x-wmf"/>
  <Override PartName="/ppt/media/image83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71.wmf" ContentType="image/x-wmf"/>
  <Override PartName="/ppt/media/image115.wmf" ContentType="image/x-wmf"/>
  <Override PartName="/ppt/media/image72.wmf" ContentType="image/x-wmf"/>
  <Override PartName="/ppt/media/image116.wmf" ContentType="image/x-wmf"/>
  <Override PartName="/ppt/media/image73.wmf" ContentType="image/x-wmf"/>
  <Override PartName="/ppt/media/image74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87.wmf" ContentType="image/x-wmf"/>
  <Override PartName="/ppt/media/image88.wmf" ContentType="image/x-wmf"/>
  <Override PartName="/ppt/media/image75.wmf" ContentType="image/x-wmf"/>
  <Override PartName="/ppt/media/image92.png" ContentType="image/png"/>
  <Override PartName="/ppt/media/image97.wmf" ContentType="image/x-wmf"/>
  <Override PartName="/ppt/media/image104.wmf" ContentType="image/x-wmf"/>
  <Override PartName="/ppt/media/image60.wmf" ContentType="image/x-wmf"/>
  <Override PartName="/ppt/media/image98.wmf" ContentType="image/x-wmf"/>
  <Override PartName="/ppt/media/image105.wmf" ContentType="image/x-wmf"/>
  <Override PartName="/ppt/media/image61.wmf" ContentType="image/x-wmf"/>
  <Override PartName="/ppt/media/image96.wmf" ContentType="image/x-wmf"/>
  <Override PartName="/ppt/media/image103.wmf" ContentType="image/x-wmf"/>
  <Override PartName="/ppt/media/image95.wmf" ContentType="image/x-wmf"/>
  <Override PartName="/ppt/media/image102.wmf" ContentType="image/x-wmf"/>
  <Override PartName="/ppt/media/image114.wmf" ContentType="image/x-wmf"/>
  <Override PartName="/ppt/media/image70.wmf" ContentType="image/x-wmf"/>
  <Override PartName="/ppt/media/image113.wmf" ContentType="image/x-wmf"/>
  <Override PartName="/ppt/media/image27.wmf" ContentType="image/x-wmf"/>
  <Override PartName="/ppt/media/image101.wmf" ContentType="image/x-wmf"/>
  <Override PartName="/ppt/media/image99.wmf" ContentType="image/x-wmf"/>
  <Override PartName="/ppt/media/image106.wmf" ContentType="image/x-wmf"/>
  <Override PartName="/ppt/media/image62.wmf" ContentType="image/x-wmf"/>
  <Override PartName="/ppt/media/image112.wmf" ContentType="image/x-wmf"/>
  <Override PartName="/ppt/media/image89.wmf" ContentType="image/x-wmf"/>
  <Override PartName="/ppt/media/image111.wmf" ContentType="image/x-wmf"/>
  <Override PartName="/ppt/media/image120.wmf" ContentType="image/x-wmf"/>
  <Override PartName="/ppt/media/image69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28.wmf" ContentType="image/x-wmf"/>
  <Override PartName="/ppt/media/image93.wmf" ContentType="image/x-wmf"/>
  <Override PartName="/ppt/media/image26.wmf" ContentType="image/x-wmf"/>
  <Override PartName="/ppt/media/image91.wmf" ContentType="image/x-wmf"/>
  <Override PartName="/ppt/media/image68.png" ContentType="image/png"/>
  <Override PartName="/ppt/media/image25.wmf" ContentType="image/x-wmf"/>
  <Override PartName="/ppt/media/image90.wmf" ContentType="image/x-wmf"/>
  <Override PartName="/ppt/media/image24.wmf" ContentType="image/x-wmf"/>
  <Override PartName="/ppt/media/image23.wmf" ContentType="image/x-wmf"/>
  <Override PartName="/ppt/media/image119.wmf" ContentType="image/x-wmf"/>
  <Override PartName="/ppt/media/image22.wmf" ContentType="image/x-wmf"/>
  <Override PartName="/ppt/media/image110.wmf" ContentType="image/x-wmf"/>
  <Override PartName="/ppt/media/image59.wmf" ContentType="image/x-wmf"/>
  <Override PartName="/ppt/media/image118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84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91E5-6B1A-4564-A2B5-6BABA56B0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9E92-7F4A-4EC8-A969-ACDFE4E4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DB65-C40D-4E0F-B434-4020F5CBC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EC64-4AC5-4148-A1CA-D34743E8B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8906-21CF-4836-B6B4-D4428C05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87C8-95AB-4212-8EC4-79FB1102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9FD9-3523-4EF5-B709-AD2E83E6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D58D-7E56-4A4C-857F-7560EE60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AE00-F1B0-4301-B9F0-2FE8C823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8543-3D76-4289-8509-817E497A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2D7C-06F1-44D7-8940-31C8650C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B463-8AC9-49E7-B87A-4BD9E256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861A-F54B-421A-A747-3B12FA80ED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TingBell3.wav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55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56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57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58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59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60.wmf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61.wmf"/><Relationship Id="rId22" Type="http://schemas.openxmlformats.org/officeDocument/2006/relationships/oleObject" Target="../embeddings/oleObject8.bin"/><Relationship Id="rId23" Type="http://schemas.openxmlformats.org/officeDocument/2006/relationships/image" Target="../media/image62.wmf"/><Relationship Id="rId24" Type="http://schemas.openxmlformats.org/officeDocument/2006/relationships/oleObject" Target="../embeddings/oleObject9.bin"/><Relationship Id="rId25" Type="http://schemas.openxmlformats.org/officeDocument/2006/relationships/image" Target="../media/image63.wmf"/><Relationship Id="rId26" Type="http://schemas.openxmlformats.org/officeDocument/2006/relationships/oleObject" Target="../embeddings/oleObject10.bin"/><Relationship Id="rId27" Type="http://schemas.openxmlformats.org/officeDocument/2006/relationships/image" Target="../media/image64.wmf"/><Relationship Id="rId28" Type="http://schemas.openxmlformats.org/officeDocument/2006/relationships/oleObject" Target="../embeddings/oleObject11.bin"/><Relationship Id="rId29" Type="http://schemas.openxmlformats.org/officeDocument/2006/relationships/image" Target="../media/image65.wmf"/><Relationship Id="rId30" Type="http://schemas.openxmlformats.org/officeDocument/2006/relationships/oleObject" Target="../embeddings/oleObject12.bin"/><Relationship Id="rId31" Type="http://schemas.openxmlformats.org/officeDocument/2006/relationships/image" Target="../media/image66.wmf"/><Relationship Id="rId32" Type="http://schemas.openxmlformats.org/officeDocument/2006/relationships/oleObject" Target="../embeddings/oleObject13.bin"/><Relationship Id="rId33" Type="http://schemas.openxmlformats.org/officeDocument/2006/relationships/image" Target="../media/image67.wmf"/><Relationship Id="rId3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68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69.wmf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70.wmf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71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72.wmf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73.wmf"/><Relationship Id="rId19" Type="http://schemas.openxmlformats.org/officeDocument/2006/relationships/oleObject" Target="../embeddings/oleObject6.bin"/><Relationship Id="rId20" Type="http://schemas.openxmlformats.org/officeDocument/2006/relationships/image" Target="../media/image74.wmf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75.wmf"/><Relationship Id="rId2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6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77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78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79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80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81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82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83.wmf"/><Relationship Id="rId23" Type="http://schemas.openxmlformats.org/officeDocument/2006/relationships/oleObject" Target="../embeddings/oleObject9.bin"/><Relationship Id="rId24" Type="http://schemas.openxmlformats.org/officeDocument/2006/relationships/image" Target="../media/image84.wmf"/><Relationship Id="rId25" Type="http://schemas.openxmlformats.org/officeDocument/2006/relationships/oleObject" Target="../embeddings/oleObject10.bin"/><Relationship Id="rId26" Type="http://schemas.openxmlformats.org/officeDocument/2006/relationships/image" Target="../media/image85.wmf"/><Relationship Id="rId27" Type="http://schemas.openxmlformats.org/officeDocument/2006/relationships/oleObject" Target="../embeddings/oleObject11.bin"/><Relationship Id="rId28" Type="http://schemas.openxmlformats.org/officeDocument/2006/relationships/image" Target="../media/image86.wmf"/><Relationship Id="rId29" Type="http://schemas.openxmlformats.org/officeDocument/2006/relationships/oleObject" Target="../embeddings/oleObject12.bin"/><Relationship Id="rId30" Type="http://schemas.openxmlformats.org/officeDocument/2006/relationships/image" Target="../media/image87.wmf"/><Relationship Id="rId31" Type="http://schemas.openxmlformats.org/officeDocument/2006/relationships/oleObject" Target="../embeddings/oleObject13.bin"/><Relationship Id="rId32" Type="http://schemas.openxmlformats.org/officeDocument/2006/relationships/image" Target="../media/image88.wmf"/><Relationship Id="rId3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89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90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91.wmf"/><Relationship Id="rId14" Type="http://schemas.openxmlformats.org/officeDocument/2006/relationships/image" Target="../media/image92.png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93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94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95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96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97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98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99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100.wmf"/><Relationship Id="rId23" Type="http://schemas.openxmlformats.org/officeDocument/2006/relationships/oleObject" Target="../embeddings/oleObject9.bin"/><Relationship Id="rId24" Type="http://schemas.openxmlformats.org/officeDocument/2006/relationships/image" Target="../media/image101.wmf"/><Relationship Id="rId25" Type="http://schemas.openxmlformats.org/officeDocument/2006/relationships/oleObject" Target="../embeddings/oleObject10.bin"/><Relationship Id="rId26" Type="http://schemas.openxmlformats.org/officeDocument/2006/relationships/image" Target="../media/image102.wmf"/><Relationship Id="rId27" Type="http://schemas.openxmlformats.org/officeDocument/2006/relationships/oleObject" Target="../embeddings/oleObject11.bin"/><Relationship Id="rId28" Type="http://schemas.openxmlformats.org/officeDocument/2006/relationships/image" Target="../media/image103.wmf"/><Relationship Id="rId29" Type="http://schemas.openxmlformats.org/officeDocument/2006/relationships/oleObject" Target="../embeddings/oleObject12.bin"/><Relationship Id="rId30" Type="http://schemas.openxmlformats.org/officeDocument/2006/relationships/image" Target="../media/image104.wmf"/><Relationship Id="rId3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105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06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06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107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108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109.wmf"/><Relationship Id="rId2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file:///tmp/home/.config/libreoffice/4/user/gallery/TingBell3.wav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15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6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17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18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9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20.wmf"/><Relationship Id="rId24" Type="http://schemas.openxmlformats.org/officeDocument/2006/relationships/hyperlink" Target="file:///tmp/home/.config/libreoffice/4/user/gallery/TingBell3.wav" TargetMode="External"/><Relationship Id="rId25" Type="http://schemas.openxmlformats.org/officeDocument/2006/relationships/image" Target="../media/image6.png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TingBell3.wav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0.wmf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12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3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4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15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16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17.wmf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18.wmf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hyperlink" Target="file:///tmp/home/.config/libreoffice/4/user/gallery/TingBell3.wav" TargetMode="External"/><Relationship Id="rId5" Type="http://schemas.openxmlformats.org/officeDocument/2006/relationships/image" Target="../media/image6.png"/><Relationship Id="rId6" Type="http://schemas.openxmlformats.org/officeDocument/2006/relationships/hyperlink" Target="file:///tmp/home/.config/libreoffice/4/user/gallery/TingBell3.wav" TargetMode="External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22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23.wmf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24.wmf"/><Relationship Id="rId19" Type="http://schemas.openxmlformats.org/officeDocument/2006/relationships/oleObject" Target="../embeddings/oleObject6.bin"/><Relationship Id="rId20" Type="http://schemas.openxmlformats.org/officeDocument/2006/relationships/image" Target="../media/image25.wmf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26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27.wmf"/><Relationship Id="rId25" Type="http://schemas.openxmlformats.org/officeDocument/2006/relationships/oleObject" Target="../embeddings/oleObject9.bin"/><Relationship Id="rId26" Type="http://schemas.openxmlformats.org/officeDocument/2006/relationships/image" Target="../media/image28.wmf"/><Relationship Id="rId27" Type="http://schemas.openxmlformats.org/officeDocument/2006/relationships/oleObject" Target="../embeddings/oleObject10.bin"/><Relationship Id="rId28" Type="http://schemas.openxmlformats.org/officeDocument/2006/relationships/image" Target="../media/image29.wmf"/><Relationship Id="rId29" Type="http://schemas.openxmlformats.org/officeDocument/2006/relationships/oleObject" Target="../embeddings/oleObject11.bin"/><Relationship Id="rId30" Type="http://schemas.openxmlformats.org/officeDocument/2006/relationships/image" Target="../media/image30.wmf"/><Relationship Id="rId31" Type="http://schemas.openxmlformats.org/officeDocument/2006/relationships/oleObject" Target="../embeddings/oleObject12.bin"/><Relationship Id="rId32" Type="http://schemas.openxmlformats.org/officeDocument/2006/relationships/image" Target="../media/image31.wmf"/><Relationship Id="rId3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hyperlink" Target="file:///tmp/home/.config/libreoffice/4/user/gallery/TingBell3.wav" TargetMode="External"/><Relationship Id="rId5" Type="http://schemas.openxmlformats.org/officeDocument/2006/relationships/image" Target="../media/image6.png"/><Relationship Id="rId6" Type="http://schemas.openxmlformats.org/officeDocument/2006/relationships/hyperlink" Target="file:///tmp/home/.config/libreoffice/4/user/gallery/TingBell3.wav" TargetMode="External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33.wmf"/><Relationship Id="rId11" Type="http://schemas.openxmlformats.org/officeDocument/2006/relationships/image" Target="../media/image32.png"/><Relationship Id="rId12" Type="http://schemas.openxmlformats.org/officeDocument/2006/relationships/image" Target="../media/image34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35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36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37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38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39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40.wmf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41.wmf"/><Relationship Id="rId22" Type="http://schemas.openxmlformats.org/officeDocument/2006/relationships/oleObject" Target="../embeddings/oleObject8.bin"/><Relationship Id="rId23" Type="http://schemas.openxmlformats.org/officeDocument/2006/relationships/image" Target="../media/image42.wmf"/><Relationship Id="rId24" Type="http://schemas.openxmlformats.org/officeDocument/2006/relationships/oleObject" Target="../embeddings/oleObject9.bin"/><Relationship Id="rId25" Type="http://schemas.openxmlformats.org/officeDocument/2006/relationships/image" Target="../media/image43.wmf"/><Relationship Id="rId26" Type="http://schemas.openxmlformats.org/officeDocument/2006/relationships/oleObject" Target="../embeddings/oleObject10.bin"/><Relationship Id="rId27" Type="http://schemas.openxmlformats.org/officeDocument/2006/relationships/image" Target="../media/image44.wmf"/><Relationship Id="rId28" Type="http://schemas.openxmlformats.org/officeDocument/2006/relationships/oleObject" Target="../embeddings/oleObject11.bin"/><Relationship Id="rId29" Type="http://schemas.openxmlformats.org/officeDocument/2006/relationships/image" Target="../media/image45.wmf"/><Relationship Id="rId30" Type="http://schemas.openxmlformats.org/officeDocument/2006/relationships/oleObject" Target="../embeddings/oleObject12.bin"/><Relationship Id="rId31" Type="http://schemas.openxmlformats.org/officeDocument/2006/relationships/image" Target="../media/image46.wmf"/><Relationship Id="rId32" Type="http://schemas.openxmlformats.org/officeDocument/2006/relationships/oleObject" Target="../embeddings/oleObject13.bin"/><Relationship Id="rId33" Type="http://schemas.openxmlformats.org/officeDocument/2006/relationships/image" Target="../media/image47.wmf"/><Relationship Id="rId34" Type="http://schemas.openxmlformats.org/officeDocument/2006/relationships/oleObject" Target="../embeddings/oleObject14.bin"/><Relationship Id="rId35" Type="http://schemas.openxmlformats.org/officeDocument/2006/relationships/image" Target="../media/image48.wmf"/><Relationship Id="rId36" Type="http://schemas.openxmlformats.org/officeDocument/2006/relationships/oleObject" Target="../embeddings/oleObject15.bin"/><Relationship Id="rId37" Type="http://schemas.openxmlformats.org/officeDocument/2006/relationships/image" Target="../media/image49.wmf"/><Relationship Id="rId38" Type="http://schemas.openxmlformats.org/officeDocument/2006/relationships/oleObject" Target="../embeddings/oleObject16.bin"/><Relationship Id="rId39" Type="http://schemas.openxmlformats.org/officeDocument/2006/relationships/image" Target="../media/image50.wmf"/><Relationship Id="rId4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51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52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53.wmf"/><Relationship Id="rId14" Type="http://schemas.openxmlformats.org/officeDocument/2006/relationships/image" Target="../media/image54.png"/><Relationship Id="rId15" Type="http://schemas.openxmlformats.org/officeDocument/2006/relationships/image" Target="../media/image54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011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raphs &amp;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98400" y="3857760"/>
            <a:ext cx="7732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284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igher Ma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07960" y="333360"/>
            <a:ext cx="8096400" cy="428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93840" y="618156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lick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2920" y="543384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290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7562880" y="430848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7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&amp; Functions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48480" y="744480"/>
            <a:ext cx="7446240" cy="2358000"/>
            <a:chOff x="348480" y="744480"/>
            <a:chExt cx="7446240" cy="2358000"/>
          </a:xfrm>
        </p:grpSpPr>
        <p:sp>
          <p:nvSpPr>
            <p:cNvPr id="303" name=""/>
            <p:cNvSpPr/>
            <p:nvPr/>
          </p:nvSpPr>
          <p:spPr>
            <a:xfrm>
              <a:off x="348480" y="759960"/>
              <a:ext cx="4290840" cy="23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unctions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re defined on a suitable set of real number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)   Find expressions fo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)                                ii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)    i)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how tha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i)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nd a similar expression fo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nd hence solve the equ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04" name=""/>
            <p:cNvGraphicFramePr/>
            <p:nvPr/>
          </p:nvGraphicFramePr>
          <p:xfrm>
            <a:off x="1508040" y="744480"/>
            <a:ext cx="3772080" cy="4208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05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508040" y="744480"/>
                      <a:ext cx="3772080" cy="42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6" name=""/>
            <p:cNvGraphicFramePr/>
            <p:nvPr/>
          </p:nvGraphicFramePr>
          <p:xfrm>
            <a:off x="1281240" y="1700280"/>
            <a:ext cx="780840" cy="2984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07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281240" y="1700280"/>
                      <a:ext cx="780840" cy="29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8" name=""/>
            <p:cNvGraphicFramePr/>
            <p:nvPr/>
          </p:nvGraphicFramePr>
          <p:xfrm>
            <a:off x="3322800" y="1695600"/>
            <a:ext cx="738000" cy="2919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309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3322800" y="1695600"/>
                      <a:ext cx="738000" cy="29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0" name=""/>
            <p:cNvGraphicFramePr/>
            <p:nvPr/>
          </p:nvGraphicFramePr>
          <p:xfrm>
            <a:off x="2473200" y="1957320"/>
            <a:ext cx="2498760" cy="46548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311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2473200" y="1957320"/>
                      <a:ext cx="2498760" cy="46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2" name=""/>
            <p:cNvGraphicFramePr/>
            <p:nvPr/>
          </p:nvGraphicFramePr>
          <p:xfrm>
            <a:off x="4170240" y="2433600"/>
            <a:ext cx="676440" cy="26856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313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4170240" y="2433600"/>
                      <a:ext cx="676440" cy="2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4" name=""/>
            <p:cNvGraphicFramePr/>
            <p:nvPr/>
          </p:nvGraphicFramePr>
          <p:xfrm>
            <a:off x="4132440" y="2748240"/>
            <a:ext cx="3662280" cy="31896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315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4132440" y="2748240"/>
                      <a:ext cx="3662280" cy="31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16" name=""/>
          <p:cNvGraphicFramePr/>
          <p:nvPr/>
        </p:nvGraphicFramePr>
        <p:xfrm>
          <a:off x="1281240" y="3279600"/>
          <a:ext cx="2068560" cy="5414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281240" y="3279600"/>
                    <a:ext cx="206856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615600" y="33447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3548160" y="3265560"/>
          <a:ext cx="1306440" cy="5414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548160" y="3265560"/>
                    <a:ext cx="13064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5241960" y="3265560"/>
          <a:ext cx="2198520" cy="5414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241960" y="3265560"/>
                    <a:ext cx="219852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46040" y="3976560"/>
          <a:ext cx="3505320" cy="54144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1346040" y="3976560"/>
                    <a:ext cx="350532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"/>
          <p:cNvSpPr/>
          <p:nvPr/>
        </p:nvSpPr>
        <p:spPr>
          <a:xfrm>
            <a:off x="614880" y="400536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89320" y="4087800"/>
            <a:ext cx="21726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w use exact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044360" y="4564080"/>
            <a:ext cx="1404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 for 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44000" y="5157720"/>
            <a:ext cx="19638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quation reduces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3160800" y="4962600"/>
          <a:ext cx="1190520" cy="65088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160800" y="4962600"/>
                    <a:ext cx="119052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4649760" y="4930920"/>
          <a:ext cx="1611360" cy="68724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649760" y="4930920"/>
                    <a:ext cx="161136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6647040" y="4978440"/>
          <a:ext cx="1035000" cy="59040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6647040" y="4978440"/>
                    <a:ext cx="103500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336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6505560" y="510696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7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&amp; Functions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2000-1 Q 2" descr=""/>
          <p:cNvPicPr/>
          <p:nvPr/>
        </p:nvPicPr>
        <p:blipFill>
          <a:blip r:embed="rId8"/>
          <a:stretch/>
        </p:blipFill>
        <p:spPr>
          <a:xfrm>
            <a:off x="6470640" y="790560"/>
            <a:ext cx="2295360" cy="17431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0" y="245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40" y="316008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339480" y="809640"/>
            <a:ext cx="6581520" cy="2015640"/>
            <a:chOff x="339480" y="809640"/>
            <a:chExt cx="6581520" cy="2015640"/>
          </a:xfrm>
        </p:grpSpPr>
        <p:sp>
          <p:nvSpPr>
            <p:cNvPr id="352" name=""/>
            <p:cNvSpPr/>
            <p:nvPr/>
          </p:nvSpPr>
          <p:spPr>
            <a:xfrm>
              <a:off x="339480" y="809640"/>
              <a:ext cx="6581520" cy="20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sketch of the graph of y = f(x) where                          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s show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he graph has a maximum at A and a minimum at B(3, 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)   Find the co-ordinates of the turning point at A.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)   Hence, sketch the graph of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ndicate the co-ordinates of the turning points. There is no need 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alculate the co-ordinates of the points of intersection with the axes.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)   Write down the range of values of k  for which g(x) = k has 3 real roots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53" name=""/>
            <p:cNvGraphicFramePr/>
            <p:nvPr/>
          </p:nvGraphicFramePr>
          <p:xfrm>
            <a:off x="3657600" y="822240"/>
            <a:ext cx="1706400" cy="308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5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657600" y="822240"/>
                      <a:ext cx="1706400" cy="30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5" name=""/>
            <p:cNvGraphicFramePr/>
            <p:nvPr/>
          </p:nvGraphicFramePr>
          <p:xfrm>
            <a:off x="2941560" y="1709640"/>
            <a:ext cx="1662120" cy="2797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5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941560" y="1709640"/>
                      <a:ext cx="1662120" cy="27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57" name=""/>
          <p:cNvSpPr/>
          <p:nvPr/>
        </p:nvSpPr>
        <p:spPr>
          <a:xfrm>
            <a:off x="1440" y="399348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9680" y="31701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41480" y="3203640"/>
            <a:ext cx="13525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612880" y="3173400"/>
          <a:ext cx="2357640" cy="415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612880" y="3173400"/>
                    <a:ext cx="235764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5179320" y="3198960"/>
            <a:ext cx="1628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SP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7110360" y="3195720"/>
          <a:ext cx="1571760" cy="369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110360" y="3195720"/>
                    <a:ext cx="157176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1041480" y="3716280"/>
            <a:ext cx="12078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 x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612880" y="3716280"/>
          <a:ext cx="669960" cy="370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612880" y="3716280"/>
                    <a:ext cx="66996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3563280" y="3716280"/>
            <a:ext cx="11955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.p. at A 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5054760" y="3716280"/>
          <a:ext cx="715680" cy="37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054760" y="3716280"/>
                    <a:ext cx="71568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"/>
          <p:cNvSpPr/>
          <p:nvPr/>
        </p:nvSpPr>
        <p:spPr>
          <a:xfrm>
            <a:off x="498960" y="43657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42560" y="4365720"/>
            <a:ext cx="962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ph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239920" y="4348080"/>
            <a:ext cx="38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moved 2 units to the left, and 4 units 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7559640" y="4280040"/>
          <a:ext cx="1273320" cy="547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559640" y="4280040"/>
                    <a:ext cx="1273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6279480" y="4375080"/>
            <a:ext cx="10998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.p.’s  a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9680" y="50133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33920" y="5013360"/>
            <a:ext cx="51094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3 real roots, line y = k has to cut graph at 3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96160" y="5464080"/>
            <a:ext cx="24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from the graph, k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381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7462800" y="438156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&amp; Functions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189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344160" y="900000"/>
            <a:ext cx="6375960" cy="1303560"/>
            <a:chOff x="344160" y="900000"/>
            <a:chExt cx="6375960" cy="1303560"/>
          </a:xfrm>
        </p:grpSpPr>
        <p:graphicFrame>
          <p:nvGraphicFramePr>
            <p:cNvPr id="394" name=""/>
            <p:cNvGraphicFramePr/>
            <p:nvPr/>
          </p:nvGraphicFramePr>
          <p:xfrm>
            <a:off x="369720" y="900000"/>
            <a:ext cx="3659040" cy="484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9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69720" y="900000"/>
                      <a:ext cx="3659040" cy="48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6" name=""/>
            <p:cNvSpPr/>
            <p:nvPr/>
          </p:nvSpPr>
          <p:spPr>
            <a:xfrm>
              <a:off x="344160" y="1384200"/>
              <a:ext cx="63759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)   Fin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)   If                                      find                     in its simplest form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97" name=""/>
            <p:cNvGraphicFramePr/>
            <p:nvPr/>
          </p:nvGraphicFramePr>
          <p:xfrm>
            <a:off x="1396800" y="1417680"/>
            <a:ext cx="2639880" cy="291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9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396800" y="1417680"/>
                      <a:ext cx="2639880" cy="29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9" name=""/>
            <p:cNvGraphicFramePr/>
            <p:nvPr/>
          </p:nvGraphicFramePr>
          <p:xfrm>
            <a:off x="1101600" y="1689120"/>
            <a:ext cx="1761840" cy="514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0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101600" y="1689120"/>
                      <a:ext cx="1761840" cy="51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1" name=""/>
            <p:cNvGraphicFramePr/>
            <p:nvPr/>
          </p:nvGraphicFramePr>
          <p:xfrm>
            <a:off x="3695400" y="1836720"/>
            <a:ext cx="776160" cy="297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0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695400" y="1836720"/>
                      <a:ext cx="776160" cy="2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03" name=""/>
          <p:cNvGraphicFramePr/>
          <p:nvPr/>
        </p:nvGraphicFramePr>
        <p:xfrm>
          <a:off x="1066680" y="2589120"/>
          <a:ext cx="2635200" cy="601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066680" y="2589120"/>
                    <a:ext cx="263520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"/>
          <p:cNvSpPr/>
          <p:nvPr/>
        </p:nvSpPr>
        <p:spPr>
          <a:xfrm>
            <a:off x="397800" y="26622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3940200" y="2585880"/>
          <a:ext cx="993600" cy="5796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940200" y="2585880"/>
                    <a:ext cx="99360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5227560" y="2602080"/>
          <a:ext cx="1063800" cy="5792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227560" y="2602080"/>
                    <a:ext cx="106380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6662880" y="2602080"/>
          <a:ext cx="1203120" cy="5792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662880" y="2602080"/>
                    <a:ext cx="120312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"/>
          <p:cNvSpPr/>
          <p:nvPr/>
        </p:nvSpPr>
        <p:spPr>
          <a:xfrm>
            <a:off x="397080" y="36450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120680" y="3246480"/>
          <a:ext cx="3167280" cy="1109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120680" y="3246480"/>
                    <a:ext cx="3167280" cy="11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4927680" y="3408480"/>
          <a:ext cx="2313000" cy="7855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927680" y="3408480"/>
                    <a:ext cx="23130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949320" y="4497480"/>
          <a:ext cx="2637000" cy="7858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949320" y="4497480"/>
                    <a:ext cx="263700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"/>
          <p:cNvGraphicFramePr/>
          <p:nvPr/>
        </p:nvGraphicFramePr>
        <p:xfrm>
          <a:off x="4000680" y="4532400"/>
          <a:ext cx="1665000" cy="7160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000680" y="4532400"/>
                    <a:ext cx="166500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"/>
          <p:cNvGraphicFramePr/>
          <p:nvPr/>
        </p:nvGraphicFramePr>
        <p:xfrm>
          <a:off x="6688080" y="4740120"/>
          <a:ext cx="601560" cy="3002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688080" y="4740120"/>
                    <a:ext cx="601560" cy="3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424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6664320" y="411948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7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&amp; Functions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1040" y="916200"/>
            <a:ext cx="5324400" cy="14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of the graph of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shown in the diagra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separate diagrams sketch the graph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icate on each graph the images of O, A, B, C, and 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2297160" y="961920"/>
          <a:ext cx="890640" cy="306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97160" y="961920"/>
                    <a:ext cx="89064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"/>
          <p:cNvGraphicFramePr/>
          <p:nvPr/>
        </p:nvGraphicFramePr>
        <p:xfrm>
          <a:off x="682560" y="1671480"/>
          <a:ext cx="1160640" cy="304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82560" y="1671480"/>
                    <a:ext cx="1160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"/>
          <p:cNvGraphicFramePr/>
          <p:nvPr/>
        </p:nvGraphicFramePr>
        <p:xfrm>
          <a:off x="2587680" y="1647720"/>
          <a:ext cx="1123920" cy="306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587680" y="1647720"/>
                    <a:ext cx="112392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3" name="" descr=""/>
          <p:cNvPicPr/>
          <p:nvPr/>
        </p:nvPicPr>
        <p:blipFill>
          <a:blip r:embed="rId14"/>
          <a:stretch/>
        </p:blipFill>
        <p:spPr>
          <a:xfrm>
            <a:off x="6437160" y="835200"/>
            <a:ext cx="2183040" cy="18079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397800" y="26622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97080" y="36450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974520" y="2698920"/>
            <a:ext cx="324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graph moves to the left 1 un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062360" y="3616200"/>
            <a:ext cx="331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graph is reflected in the x ax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058040" y="4075200"/>
            <a:ext cx="481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graph is then scaled 2 units in the y dire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450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3760920" y="5413320"/>
            <a:ext cx="618840" cy="6192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&amp; Functions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10680" y="915120"/>
            <a:ext cx="589716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nd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defined on the set of real nu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  Find formulae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)                                        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  The function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is defined b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w that                              and sketch the graph of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)    Find the area enclosed between this graph and the x-axi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803160" y="1200240"/>
          <a:ext cx="2756160" cy="36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03160" y="1200240"/>
                    <a:ext cx="27561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"/>
          <p:cNvGraphicFramePr/>
          <p:nvPr/>
        </p:nvGraphicFramePr>
        <p:xfrm>
          <a:off x="1108080" y="1932120"/>
          <a:ext cx="801720" cy="29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08080" y="1932120"/>
                    <a:ext cx="80172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"/>
          <p:cNvGraphicFramePr/>
          <p:nvPr/>
        </p:nvGraphicFramePr>
        <p:xfrm>
          <a:off x="3616200" y="1938240"/>
          <a:ext cx="801720" cy="29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16200" y="1938240"/>
                    <a:ext cx="80172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3616200" y="2328840"/>
          <a:ext cx="2274840" cy="285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16200" y="2328840"/>
                    <a:ext cx="22748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1868400" y="2693880"/>
          <a:ext cx="1390680" cy="324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68400" y="2693880"/>
                    <a:ext cx="139068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"/>
          <p:cNvSpPr/>
          <p:nvPr/>
        </p:nvSpPr>
        <p:spPr>
          <a:xfrm>
            <a:off x="442440" y="34466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41720" y="42400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157400" y="3438360"/>
          <a:ext cx="2774880" cy="416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157400" y="3438360"/>
                    <a:ext cx="277488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4546440" y="3378240"/>
          <a:ext cx="3168720" cy="509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546440" y="3378240"/>
                    <a:ext cx="316872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1158840" y="4160880"/>
          <a:ext cx="2452680" cy="507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158840" y="4160880"/>
                    <a:ext cx="24526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3967200" y="4148280"/>
          <a:ext cx="2800440" cy="4158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967200" y="4148280"/>
                    <a:ext cx="280044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7062840" y="4181400"/>
          <a:ext cx="1341360" cy="3700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062840" y="4181400"/>
                    <a:ext cx="134136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"/>
          <p:cNvSpPr/>
          <p:nvPr/>
        </p:nvSpPr>
        <p:spPr>
          <a:xfrm>
            <a:off x="442440" y="4941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051920" y="4973760"/>
            <a:ext cx="27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Graph cuts x axis at 0 and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285080" y="497376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Now evalu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5981760" y="4842000"/>
          <a:ext cx="1617480" cy="6001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981760" y="4842000"/>
                    <a:ext cx="161748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9" name=""/>
          <p:cNvGraphicFramePr/>
          <p:nvPr/>
        </p:nvGraphicFramePr>
        <p:xfrm>
          <a:off x="2546280" y="5376960"/>
          <a:ext cx="995400" cy="7160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546280" y="5376960"/>
                    <a:ext cx="99540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"/>
          <p:cNvSpPr/>
          <p:nvPr/>
        </p:nvSpPr>
        <p:spPr>
          <a:xfrm>
            <a:off x="1802880" y="5532480"/>
            <a:ext cx="683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Are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493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5530680" y="401796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7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&amp; Functions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351000" y="846000"/>
            <a:ext cx="5752800" cy="1410120"/>
            <a:chOff x="351000" y="846000"/>
            <a:chExt cx="5752800" cy="1410120"/>
          </a:xfrm>
        </p:grpSpPr>
        <p:sp>
          <p:nvSpPr>
            <p:cNvPr id="506" name=""/>
            <p:cNvSpPr/>
            <p:nvPr/>
          </p:nvSpPr>
          <p:spPr>
            <a:xfrm>
              <a:off x="351000" y="846000"/>
              <a:ext cx="5752800" cy="14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functions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and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are defined on a suitable domain b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)   Find an expression for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)   Factorise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07" name=""/>
            <p:cNvGraphicFramePr/>
            <p:nvPr/>
          </p:nvGraphicFramePr>
          <p:xfrm>
            <a:off x="1779480" y="1184400"/>
            <a:ext cx="3040200" cy="3474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0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779480" y="1184400"/>
                      <a:ext cx="3040200" cy="34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9" name=""/>
            <p:cNvGraphicFramePr/>
            <p:nvPr/>
          </p:nvGraphicFramePr>
          <p:xfrm>
            <a:off x="2970360" y="1547640"/>
            <a:ext cx="801720" cy="2955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510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970360" y="1547640"/>
                      <a:ext cx="801720" cy="29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11" name=""/>
            <p:cNvGraphicFramePr/>
            <p:nvPr/>
          </p:nvGraphicFramePr>
          <p:xfrm>
            <a:off x="1803240" y="1919160"/>
            <a:ext cx="792360" cy="2923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512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1803240" y="1919160"/>
                      <a:ext cx="792360" cy="29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13" name=""/>
          <p:cNvSpPr/>
          <p:nvPr/>
        </p:nvSpPr>
        <p:spPr>
          <a:xfrm>
            <a:off x="472680" y="27208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1096920" y="2644920"/>
          <a:ext cx="3884760" cy="5540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096920" y="2644920"/>
                    <a:ext cx="388476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4168800" y="3314880"/>
          <a:ext cx="3284640" cy="5536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168800" y="3314880"/>
                    <a:ext cx="3284640" cy="55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8" name=""/>
          <p:cNvSpPr/>
          <p:nvPr/>
        </p:nvSpPr>
        <p:spPr>
          <a:xfrm>
            <a:off x="1019880" y="3395520"/>
            <a:ext cx="25689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ce of 2 squ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024560" y="4076640"/>
            <a:ext cx="10724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2773440" y="4025880"/>
          <a:ext cx="2127240" cy="507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773440" y="4025880"/>
                    <a:ext cx="21272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"/>
          <p:cNvSpPr/>
          <p:nvPr/>
        </p:nvSpPr>
        <p:spPr>
          <a:xfrm>
            <a:off x="471960" y="340056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0" y="308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have completed all 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s in this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>
            <a:hlinkClick r:id="rId1" action="ppaction://hlinksldjump"/>
          </p:cNvPr>
          <p:cNvSpPr/>
          <p:nvPr/>
        </p:nvSpPr>
        <p:spPr>
          <a:xfrm>
            <a:off x="7450200" y="5872320"/>
            <a:ext cx="1160280" cy="341280"/>
          </a:xfrm>
          <a:custGeom>
            <a:avLst/>
            <a:gdLst>
              <a:gd name="textAreaLeft" fmla="*/ 203040 w 1160280"/>
              <a:gd name="textAreaRight" fmla="*/ 841320 w 1160280"/>
              <a:gd name="textAreaTop" fmla="*/ 45720 h 341280"/>
              <a:gd name="textAreaBottom" fmla="*/ 295560 h 34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386480" y="6343560"/>
            <a:ext cx="13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Back to 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>
            <a:hlinkClick r:id="" action="ppaction://hlinkshowjump?jump=endshow"/>
          </p:cNvPr>
          <p:cNvSpPr/>
          <p:nvPr/>
        </p:nvSpPr>
        <p:spPr>
          <a:xfrm>
            <a:off x="4313160" y="6122880"/>
            <a:ext cx="531720" cy="53208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858200" y="62373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723120" y="62373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" descr="">
            <a:hlinkClick r:id="" action="ppaction://hlinkshowjump?jump=previous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&amp; Functions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8247240" y="5889600"/>
            <a:ext cx="576000" cy="77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3" name=""/>
          <p:cNvGraphicFramePr/>
          <p:nvPr/>
        </p:nvGraphicFramePr>
        <p:xfrm>
          <a:off x="1698480" y="1682640"/>
          <a:ext cx="5827680" cy="3835440"/>
        </p:xfrm>
        <a:graphic>
          <a:graphicData uri="http://schemas.openxmlformats.org/drawingml/2006/table">
            <a:tbl>
              <a:tblPr/>
              <a:tblGrid>
                <a:gridCol w="1456920"/>
                <a:gridCol w="1456920"/>
                <a:gridCol w="1456560"/>
                <a:gridCol w="1457280"/>
              </a:tblGrid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4" name=""/>
          <p:cNvGraphicFramePr/>
          <p:nvPr/>
        </p:nvGraphicFramePr>
        <p:xfrm>
          <a:off x="3695760" y="2463840"/>
          <a:ext cx="312840" cy="74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95760" y="2463840"/>
                    <a:ext cx="31284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"/>
          <p:cNvGraphicFramePr/>
          <p:nvPr/>
        </p:nvGraphicFramePr>
        <p:xfrm>
          <a:off x="5175360" y="2449440"/>
          <a:ext cx="312480" cy="74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75360" y="2449440"/>
                    <a:ext cx="3124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"/>
          <p:cNvGraphicFramePr/>
          <p:nvPr/>
        </p:nvGraphicFramePr>
        <p:xfrm>
          <a:off x="6599160" y="2449440"/>
          <a:ext cx="312840" cy="746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99160" y="2449440"/>
                    <a:ext cx="31284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"/>
          <p:cNvGraphicFramePr/>
          <p:nvPr/>
        </p:nvGraphicFramePr>
        <p:xfrm>
          <a:off x="6667560" y="3997440"/>
          <a:ext cx="288720" cy="745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67560" y="3997440"/>
                    <a:ext cx="28872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3722760" y="3230640"/>
          <a:ext cx="288720" cy="745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722760" y="3230640"/>
                    <a:ext cx="28872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6529320" y="3220920"/>
          <a:ext cx="455760" cy="7732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529320" y="3220920"/>
                    <a:ext cx="45576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3625920" y="4002120"/>
          <a:ext cx="455400" cy="772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625920" y="4002120"/>
                    <a:ext cx="45540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5121360" y="3219480"/>
          <a:ext cx="477720" cy="750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121360" y="3219480"/>
                    <a:ext cx="47772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5121360" y="4000680"/>
          <a:ext cx="477720" cy="7506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21360" y="4000680"/>
                    <a:ext cx="47772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2" name=""/>
          <p:cNvGraphicFramePr/>
          <p:nvPr/>
        </p:nvGraphicFramePr>
        <p:xfrm>
          <a:off x="3666960" y="4754520"/>
          <a:ext cx="455760" cy="750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666960" y="4754520"/>
                    <a:ext cx="45576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"/>
          <p:cNvGraphicFramePr/>
          <p:nvPr/>
        </p:nvGraphicFramePr>
        <p:xfrm>
          <a:off x="6539040" y="4842000"/>
          <a:ext cx="556920" cy="5569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539040" y="4842000"/>
                    <a:ext cx="55692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"/>
          <p:cNvSpPr/>
          <p:nvPr/>
        </p:nvSpPr>
        <p:spPr>
          <a:xfrm>
            <a:off x="0" y="979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exact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" descr="">
            <a:hlinkClick r:id="" action="ppaction://hlinkshowjump?jump=previousslide"/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&amp; Functions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&amp; Functions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208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aphs &amp; Funct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3906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questions are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4941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calculator questions will be indic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58672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86720" y="3216240"/>
            <a:ext cx="747720" cy="1003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4367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ill need a pencil, paper, ruler and rubb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91120" y="504828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056360" y="484488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226080" y="888480"/>
            <a:ext cx="6429240" cy="1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990720"/>
                <a:tab algn="l" pos="137160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diagram shows the graph of a function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990720"/>
                <a:tab algn="l" pos="137160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has a minimum turning point at (0, -3) and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990720"/>
                <a:tab algn="l" pos="137160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int of inflexion at (-4, 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04920"/>
                <a:tab algn="l" pos="609480"/>
                <a:tab algn="l" pos="990720"/>
                <a:tab algn="l" pos="137160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)  sketch the graph of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-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04920"/>
                <a:tab algn="l" pos="609480"/>
                <a:tab algn="l" pos="990720"/>
                <a:tab algn="l" pos="137160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)  On the same diagram, sketch the graph of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-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6157800" y="826920"/>
            <a:ext cx="2490840" cy="2078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&amp; Functions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6600" y="28368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68040" y="2859120"/>
            <a:ext cx="2410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flect across the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5880" y="44146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66960" y="4437000"/>
            <a:ext cx="32194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w scale by 2 in the y 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8"/>
          <a:stretch/>
        </p:blipFill>
        <p:spPr>
          <a:xfrm>
            <a:off x="4592520" y="2840040"/>
            <a:ext cx="3483000" cy="2873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9"/>
          <a:srcRect l="0" t="26491" r="0" b="0"/>
          <a:stretch/>
        </p:blipFill>
        <p:spPr>
          <a:xfrm>
            <a:off x="5337000" y="2712960"/>
            <a:ext cx="281808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981760" y="452592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&amp; Functions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0200" y="988920"/>
            <a:ext cx="36889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990720"/>
                <a:tab algn="l" pos="137160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diagram shows a sketch of part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990720"/>
                <a:tab algn="l" pos="137160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graph of a trigonometric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04920"/>
                <a:tab algn="l" pos="609480"/>
                <a:tab algn="l" pos="990720"/>
                <a:tab algn="l" pos="137160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ose equation is of the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04920"/>
                <a:tab algn="l" pos="609480"/>
                <a:tab algn="l" pos="990720"/>
                <a:tab algn="l" pos="137160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ermine the values of a, b and 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244680" y="1658880"/>
          <a:ext cx="1698840" cy="333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44680" y="1658880"/>
                    <a:ext cx="169884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9"/>
          <a:stretch/>
        </p:blipFill>
        <p:spPr>
          <a:xfrm>
            <a:off x="5638680" y="812880"/>
            <a:ext cx="3079800" cy="2633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58640" y="2932200"/>
            <a:ext cx="2168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the amplitud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1240" y="286704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8640" y="3710160"/>
            <a:ext cx="31417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the number of waves in 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98720" y="363060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8640" y="4581360"/>
            <a:ext cx="40132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where the wave is centred vertical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41200" y="45180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178240" y="1335240"/>
            <a:ext cx="485640" cy="1814400"/>
            <a:chOff x="5178240" y="1335240"/>
            <a:chExt cx="485640" cy="1814400"/>
          </a:xfrm>
        </p:grpSpPr>
        <p:sp>
          <p:nvSpPr>
            <p:cNvPr id="99" name=""/>
            <p:cNvSpPr/>
            <p:nvPr/>
          </p:nvSpPr>
          <p:spPr>
            <a:xfrm>
              <a:off x="5443560" y="1335240"/>
              <a:ext cx="0" cy="1814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78240" y="1938240"/>
              <a:ext cx="4856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Times New Roman"/>
                </a:rPr>
                <a:t>2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051600" y="2857680"/>
            <a:ext cx="1930320" cy="821160"/>
            <a:chOff x="6051600" y="2857680"/>
            <a:chExt cx="1930320" cy="821160"/>
          </a:xfrm>
        </p:grpSpPr>
        <p:sp>
          <p:nvSpPr>
            <p:cNvPr id="102" name=""/>
            <p:cNvSpPr/>
            <p:nvPr/>
          </p:nvSpPr>
          <p:spPr>
            <a:xfrm flipH="1">
              <a:off x="6051600" y="2857680"/>
              <a:ext cx="19303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8720" y="2975040"/>
              <a:ext cx="126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 in </a:t>
              </a:r>
              <a:r>
                <a:rPr b="0" lang="en-US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2 in 2 </a:t>
              </a:r>
              <a:r>
                <a:rPr b="0" lang="en-US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689000" y="2008080"/>
            <a:ext cx="1043640" cy="398880"/>
            <a:chOff x="4689000" y="2008080"/>
            <a:chExt cx="1043640" cy="398880"/>
          </a:xfrm>
        </p:grpSpPr>
        <p:sp>
          <p:nvSpPr>
            <p:cNvPr id="105" name=""/>
            <p:cNvSpPr/>
            <p:nvPr/>
          </p:nvSpPr>
          <p:spPr>
            <a:xfrm>
              <a:off x="4964040" y="2235240"/>
              <a:ext cx="7686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89000" y="2008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675320" y="4046400"/>
            <a:ext cx="618840" cy="619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&amp; Functions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0440" y="940320"/>
            <a:ext cx="819072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                            are defined on suitable domai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nd an expression for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 where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 =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)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rite down any restrictions on the domain of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571760" y="831960"/>
          <a:ext cx="1272960" cy="620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71760" y="831960"/>
                    <a:ext cx="12729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42720" y="32490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494160" y="987480"/>
          <a:ext cx="1503360" cy="358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494160" y="987480"/>
                    <a:ext cx="150336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242720" y="38458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990720"/>
                <a:tab algn="r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84320" y="2871720"/>
          <a:ext cx="2415960" cy="385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084320" y="2871720"/>
                    <a:ext cx="241596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426600" y="28368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828960" y="2690640"/>
          <a:ext cx="1643040" cy="747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828960" y="2690640"/>
                    <a:ext cx="164304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5867280" y="2690640"/>
          <a:ext cx="2078280" cy="747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867280" y="2690640"/>
                    <a:ext cx="207828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425880" y="41497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203480" y="4170240"/>
          <a:ext cx="1158840" cy="3384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203480" y="4170240"/>
                    <a:ext cx="1158840" cy="3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2735280" y="4038480"/>
          <a:ext cx="1109520" cy="603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735280" y="4038480"/>
                    <a:ext cx="110952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237280" y="1295280"/>
            <a:ext cx="3308400" cy="351792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835520" y="536724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>
            <a:hlinkClick r:id="" action="ppaction://hlinkshowjump?jump=previous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>
            <a:hlinkClick r:id="" action="ppaction://hlinkshowjump?jump=nextslide"/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8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&amp; Functions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43240" y="414576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4120" y="769320"/>
            <a:ext cx="7396200" cy="21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  Expres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in the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  On the same diagram sk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)    Find the range of values of x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ich                        is positi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521000" y="755640"/>
            <a:ext cx="4694040" cy="2162160"/>
            <a:chOff x="1521000" y="755640"/>
            <a:chExt cx="4694040" cy="2162160"/>
          </a:xfrm>
        </p:grpSpPr>
        <p:graphicFrame>
          <p:nvGraphicFramePr>
            <p:cNvPr id="156" name=""/>
            <p:cNvGraphicFramePr/>
            <p:nvPr/>
          </p:nvGraphicFramePr>
          <p:xfrm>
            <a:off x="1665360" y="762120"/>
            <a:ext cx="1857240" cy="3744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665360" y="762120"/>
                      <a:ext cx="1857240" cy="37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8" name=""/>
            <p:cNvGraphicFramePr/>
            <p:nvPr/>
          </p:nvGraphicFramePr>
          <p:xfrm>
            <a:off x="5029200" y="755640"/>
            <a:ext cx="1185840" cy="3747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029200" y="755640"/>
                      <a:ext cx="118584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0" name=""/>
            <p:cNvGraphicFramePr/>
            <p:nvPr/>
          </p:nvGraphicFramePr>
          <p:xfrm>
            <a:off x="2684520" y="1498680"/>
            <a:ext cx="927000" cy="318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684520" y="1498680"/>
                      <a:ext cx="927000" cy="31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2" name=""/>
            <p:cNvGraphicFramePr/>
            <p:nvPr/>
          </p:nvGraphicFramePr>
          <p:xfrm>
            <a:off x="2751120" y="1832040"/>
            <a:ext cx="1467000" cy="3459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751120" y="1832040"/>
                      <a:ext cx="146700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4" name=""/>
            <p:cNvGraphicFramePr/>
            <p:nvPr/>
          </p:nvGraphicFramePr>
          <p:xfrm>
            <a:off x="1521000" y="2525760"/>
            <a:ext cx="1193760" cy="392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521000" y="2525760"/>
                      <a:ext cx="119376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6" name=""/>
          <p:cNvSpPr/>
          <p:nvPr/>
        </p:nvSpPr>
        <p:spPr>
          <a:xfrm>
            <a:off x="383760" y="31258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900000" y="3137040"/>
          <a:ext cx="1739880" cy="434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00000" y="3137040"/>
                    <a:ext cx="173988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2782800" y="3125880"/>
          <a:ext cx="2175120" cy="434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782800" y="3125880"/>
                    <a:ext cx="217512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2806560" y="3605040"/>
          <a:ext cx="1739880" cy="4352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806560" y="3605040"/>
                    <a:ext cx="1739880" cy="4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5126400" y="17287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7920" y="43830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39240" y="4421160"/>
            <a:ext cx="766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925640" y="4371840"/>
          <a:ext cx="2247840" cy="4352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925640" y="4371840"/>
                    <a:ext cx="2247840" cy="4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758880" y="4941720"/>
          <a:ext cx="1765080" cy="4352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58880" y="4941720"/>
                    <a:ext cx="1765080" cy="4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2846520" y="4951440"/>
          <a:ext cx="1788840" cy="3873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846520" y="4951440"/>
                    <a:ext cx="178884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4989600" y="4938840"/>
          <a:ext cx="1739880" cy="3873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989600" y="4938840"/>
                    <a:ext cx="173988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810720" y="5451480"/>
            <a:ext cx="38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10 - </a:t>
            </a:r>
            <a:r>
              <a:rPr b="0" i="1" lang="en-GB" sz="2000" spc="-1" strike="noStrike">
                <a:solidFill>
                  <a:srgbClr val="3333cc"/>
                </a:solidFill>
                <a:latin typeface="Times New Roman"/>
              </a:rPr>
              <a:t>f(x)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 is positive for    -1 &lt; </a:t>
            </a: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 &lt; 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006960" y="855720"/>
            <a:ext cx="2746440" cy="200808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87" name="" descr=""/>
            <p:cNvPicPr/>
            <p:nvPr/>
          </p:nvPicPr>
          <p:blipFill>
            <a:blip r:embed="rId2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735600" y="487368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" action="ppaction://hlinkshowjump?jump=previous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>
            <a:hlinkClick r:id="" action="ppaction://hlinkshowjump?jump=nextslide"/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8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&amp; Functions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6120" y="848160"/>
            <a:ext cx="57830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raph of a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ntersects 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xis at (–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0)  as show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a point of inflexion at (0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nd a maximum tu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at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etch the graph of the derived fun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251240" y="2082960"/>
          <a:ext cx="432000" cy="452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51240" y="2082960"/>
                    <a:ext cx="43200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3" name="" descr=""/>
          <p:cNvPicPr/>
          <p:nvPr/>
        </p:nvPicPr>
        <p:blipFill>
          <a:blip r:embed="rId11">
            <a:lum bright="16000"/>
          </a:blip>
          <a:stretch/>
        </p:blipFill>
        <p:spPr>
          <a:xfrm>
            <a:off x="2319480" y="2833560"/>
            <a:ext cx="3747960" cy="27352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2"/>
          <a:stretch/>
        </p:blipFill>
        <p:spPr>
          <a:xfrm>
            <a:off x="2913120" y="3040200"/>
            <a:ext cx="2805120" cy="24685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990960" y="3919680"/>
            <a:ext cx="0" cy="623880"/>
          </a:xfrm>
          <a:prstGeom prst="line">
            <a:avLst/>
          </a:prstGeom>
          <a:ln w="2844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46760" y="3208320"/>
            <a:ext cx="0" cy="1335240"/>
          </a:xfrm>
          <a:prstGeom prst="line">
            <a:avLst/>
          </a:prstGeom>
          <a:ln w="2844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48120" y="44863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19760" y="44845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79840" y="375300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m is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40360" y="375300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m is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80720" y="375300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m is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44080" y="53481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0" i="1" lang="en-GB" sz="2000" spc="-1" strike="noStrike">
                <a:solidFill>
                  <a:srgbClr val="ff3300"/>
                </a:solidFill>
                <a:latin typeface="Symbol"/>
                <a:ea typeface="Symbol"/>
              </a:rPr>
              <a:t></a:t>
            </a:r>
            <a:r>
              <a:rPr b="0" i="1" lang="en-GB" sz="2000" spc="-1" strike="noStrike">
                <a:solidFill>
                  <a:srgbClr val="ff3300"/>
                </a:solidFill>
                <a:latin typeface="Times New Roman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214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7113600" y="504828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&amp; Functions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9760" y="837360"/>
            <a:ext cx="525888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nd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re defined on suitable domains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d expressions f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511200" y="1222200"/>
          <a:ext cx="1260360" cy="297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11200" y="1222200"/>
                    <a:ext cx="12603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2496960" y="1201680"/>
          <a:ext cx="1038240" cy="325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96960" y="1201680"/>
                    <a:ext cx="10382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1690560" y="1990800"/>
          <a:ext cx="831960" cy="306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690560" y="1990800"/>
                    <a:ext cx="83196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1703520" y="2368440"/>
          <a:ext cx="715680" cy="2635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703520" y="2368440"/>
                    <a:ext cx="71568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2008080" y="2728800"/>
          <a:ext cx="3408480" cy="292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008080" y="2728800"/>
                    <a:ext cx="340848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1231920" y="3295800"/>
          <a:ext cx="1919160" cy="3632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231920" y="3295800"/>
                    <a:ext cx="1919160" cy="36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383760" y="3259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218040" y="3273480"/>
          <a:ext cx="1008000" cy="3412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218040" y="3273480"/>
                    <a:ext cx="100800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4816440" y="3238560"/>
          <a:ext cx="2141640" cy="3715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4816440" y="3238560"/>
                    <a:ext cx="214164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7147080" y="3259080"/>
          <a:ext cx="1023840" cy="33192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7147080" y="3259080"/>
                    <a:ext cx="102384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383040" y="3876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247760" y="3876840"/>
          <a:ext cx="1990800" cy="34128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1247760" y="3876840"/>
                    <a:ext cx="199080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3546360" y="3852720"/>
          <a:ext cx="2459160" cy="39060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546360" y="3852720"/>
                    <a:ext cx="245916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1209600" y="4336920"/>
          <a:ext cx="3098880" cy="39060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1209600" y="4336920"/>
                    <a:ext cx="309888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4764240" y="4322880"/>
          <a:ext cx="2827080" cy="39024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4764240" y="4322880"/>
                    <a:ext cx="282708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1103400" y="4732200"/>
          <a:ext cx="2975040" cy="60984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1103400" y="4732200"/>
                    <a:ext cx="2975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668840" y="4842000"/>
          <a:ext cx="2309760" cy="39024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4668840" y="4842000"/>
                    <a:ext cx="230976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4692600" y="5243400"/>
          <a:ext cx="1768680" cy="39060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4692600" y="5243400"/>
                    <a:ext cx="176868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262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6939000" y="467028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7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&amp; Functions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44520" y="899280"/>
            <a:ext cx="49784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agram shows the graphs of two quadr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th graphs have a minimum turning point at (3, 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ketch the graph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on the same 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ketch the graph of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355760" y="1212840"/>
          <a:ext cx="2465280" cy="33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355760" y="1212840"/>
                    <a:ext cx="246528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2376360" y="1920960"/>
          <a:ext cx="895320" cy="293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376360" y="1920960"/>
                    <a:ext cx="895320" cy="2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2325600" y="2638440"/>
          <a:ext cx="892440" cy="297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325600" y="2638440"/>
                    <a:ext cx="89244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1" name="" descr=""/>
          <p:cNvPicPr/>
          <p:nvPr/>
        </p:nvPicPr>
        <p:blipFill>
          <a:blip r:embed="rId14"/>
          <a:stretch/>
        </p:blipFill>
        <p:spPr>
          <a:xfrm>
            <a:off x="6454800" y="888840"/>
            <a:ext cx="2284560" cy="17402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15"/>
          <a:stretch/>
        </p:blipFill>
        <p:spPr>
          <a:xfrm>
            <a:off x="3494160" y="2685960"/>
            <a:ext cx="3406680" cy="25941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4919760" y="4703760"/>
            <a:ext cx="158760" cy="158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978440" y="4137120"/>
            <a:ext cx="0" cy="609480"/>
          </a:xfrm>
          <a:prstGeom prst="line">
            <a:avLst/>
          </a:prstGeom>
          <a:ln w="3816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906720" y="2960280"/>
            <a:ext cx="2872080" cy="29466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222720" y="3932280"/>
            <a:ext cx="4221000" cy="14796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486560" y="3645000"/>
            <a:ext cx="11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3300"/>
                </a:solidFill>
                <a:latin typeface="Times New Roman"/>
              </a:rPr>
              <a:t>y=g</a:t>
            </a:r>
            <a:r>
              <a:rPr b="0" i="1" lang="en-GB" sz="2400" spc="-1" strike="noStrike">
                <a:solidFill>
                  <a:srgbClr val="ff3300"/>
                </a:solidFill>
                <a:latin typeface="Symbol"/>
                <a:ea typeface="Symbol"/>
              </a:rPr>
              <a:t>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17680" y="266544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9900"/>
                </a:solidFill>
                <a:latin typeface="Times New Roman"/>
              </a:rPr>
              <a:t>y=f</a:t>
            </a:r>
            <a:r>
              <a:rPr b="0" i="1" lang="en-GB" sz="2400" spc="-1" strike="noStrike">
                <a:solidFill>
                  <a:srgbClr val="ff9900"/>
                </a:solidFill>
                <a:latin typeface="Symbol"/>
                <a:ea typeface="Symbol"/>
              </a:rPr>
              <a:t></a:t>
            </a:r>
            <a:r>
              <a:rPr b="0" i="1" lang="en-GB" sz="2400" spc="-1" strike="noStrike">
                <a:solidFill>
                  <a:srgbClr val="ff9900"/>
                </a:solidFill>
                <a:latin typeface="Times New Roman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1T14:02:10Z</dcterms:created>
  <dc:creator>Derek Warburton</dc:creator>
  <dc:description/>
  <dc:language>en-US</dc:language>
  <cp:lastModifiedBy>Derek Warburton</cp:lastModifiedBy>
  <dcterms:modified xsi:type="dcterms:W3CDTF">2004-05-17T20:33:13Z</dcterms:modified>
  <cp:revision>289</cp:revision>
  <dc:subject/>
  <dc:title>PowerPoint Presentation</dc:title>
</cp:coreProperties>
</file>